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1F5-262A-4893-8B7A-44925C7B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2D4-F82E-4B88-852D-CC4C4986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6BD-748C-4185-AA8F-466BEAC2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D3F-B5ED-4792-9D76-CA8C5C28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9A4-8DEB-4B04-9011-9C3AAA04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3F0-A0AC-4139-AD5E-824CE095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389-E0CA-44E3-B2A9-44D591BD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3462-D6B2-4885-B3AE-5A5E36EC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B24-C735-4066-923D-AE732414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63A-B6FA-4C14-83FD-184542A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16E-DF4A-4B69-AEA8-720CE51C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252-AAFC-4A26-BD2B-83C78593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EFDE-DC89-4C44-BD43-B781512D2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ERTIFIC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LA FORMATION PROFESSIONNEL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F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« De la formation au diplôm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6248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 système unique na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image_3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81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modalités plus souples en formation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617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age_1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172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e définition partenari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diplô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15328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image_4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29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diplômes 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 paliers success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924680" y="6172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_2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36576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ourse aux diplôm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532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ans-titre-5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24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06:54:41Z</dcterms:created>
  <dc:creator>Dig</dc:creator>
  <dc:description/>
  <dc:language>en-US</dc:language>
  <cp:lastModifiedBy>Dig</cp:lastModifiedBy>
  <dcterms:modified xsi:type="dcterms:W3CDTF">2003-06-16T08:11:08Z</dcterms:modified>
  <cp:revision>8</cp:revision>
  <dc:subject/>
  <dc:title>LA CERTIFICATION  DE LA FORMATION PROFESSIONNELLE  EN F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3604265</vt:r8>
  </property>
  <property fmtid="{D5CDD505-2E9C-101B-9397-08002B2CF9AE}" pid="3" name="_AuthorEmail">
    <vt:lpwstr>huisgufp@ej-gv.es</vt:lpwstr>
  </property>
  <property fmtid="{D5CDD505-2E9C-101B-9397-08002B2CF9AE}" pid="4" name="_AuthorEmailDisplayName">
    <vt:lpwstr>Azpiroz Artano, Igone</vt:lpwstr>
  </property>
  <property fmtid="{D5CDD505-2E9C-101B-9397-08002B2CF9AE}" pid="5" name="_EmailSubject">
    <vt:lpwstr>PONENCIA</vt:lpwstr>
  </property>
</Properties>
</file>