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743-18FF-4E57-9083-1A148FC1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CFC-C160-416F-B35C-7718A7CD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091-7F9C-40E6-B6D6-45F0279B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35E-C891-4FB6-A677-4546F0E9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7CC4-8779-4D3C-81D2-AA061BA1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E768-9C99-4D6B-A11F-3C565B0E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EF7E-24D1-4C42-8747-B96E05B3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AF0A-FA81-4A86-94E6-6B515FEE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B0D7-3A78-4EBB-B06F-EA38B667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09DE-FEFA-4DE9-858D-7BB0819A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62E9-4DB9-4102-9A51-8C5F5F1E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123-E68D-4E61-8F34-C6B4ECD9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F0C0-072F-4345-8F96-90D6F2E2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677D-3C3A-421B-BC2F-CA31A71D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6B93-C464-4D5F-A322-FB22FEBC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1AEA-3A6A-40BC-A6F8-6749020B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65AC-C86E-40A5-A48D-105CF456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6E3-411A-4B65-8E6A-E8268928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2DE4-37B8-4F20-9FBD-BBC86A17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7A3-2583-4433-B7CA-1924C904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04D-14C0-4B61-B731-8FCF8808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4D6-3001-4B34-8552-236154CE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D689-916E-4F05-9150-B8409EC1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5DA-E01B-4BA5-B25F-20807646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21AB-31AA-4BC1-B0E5-A127D92D9A6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715D-B335-4DB0-A5F4-186552E752D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ALIDATION DES ACQUIS DE L’EXPERIENC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En Région LIMOUS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FR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18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53BE-344D-4308-95C8-22C7EDFCEBCE}" type="slidenum"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.A.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Comment reconnaître l’acquisition de compétences en des lieux différents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pe03166_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2346480" cy="2474640"/>
          </a:xfrm>
          <a:prstGeom prst="rect">
            <a:avLst/>
          </a:prstGeom>
          <a:ln w="0">
            <a:noFill/>
          </a:ln>
        </p:spPr>
      </p:pic>
      <p:pic>
        <p:nvPicPr>
          <p:cNvPr id="98" name="pe03254_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99" name="bl00381_" descr=""/>
          <p:cNvPicPr/>
          <p:nvPr/>
        </p:nvPicPr>
        <p:blipFill>
          <a:blip r:embed="rId3"/>
          <a:stretch/>
        </p:blipFill>
        <p:spPr>
          <a:xfrm>
            <a:off x="6400800" y="3429000"/>
            <a:ext cx="2301840" cy="189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4191120"/>
            <a:ext cx="106704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3760" y="4267080"/>
            <a:ext cx="99036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bd00028_" descr=""/>
          <p:cNvPicPr/>
          <p:nvPr/>
        </p:nvPicPr>
        <p:blipFill>
          <a:blip r:embed="rId4"/>
          <a:stretch/>
        </p:blipFill>
        <p:spPr>
          <a:xfrm>
            <a:off x="3886200" y="5638680"/>
            <a:ext cx="861840" cy="844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4582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’organisation de la VAE </a:t>
            </a:r>
            <a:br>
              <a:rPr sz="4400"/>
            </a:b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en LIMOUSI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e03254_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6" name="pe03254_" descr=""/>
          <p:cNvPicPr/>
          <p:nvPr/>
        </p:nvPicPr>
        <p:blipFill>
          <a:blip r:embed="rId2"/>
          <a:stretch/>
        </p:blipFill>
        <p:spPr>
          <a:xfrm>
            <a:off x="3124080" y="411480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7" name="pe03254_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1406520" cy="1268280"/>
          </a:xfrm>
          <a:prstGeom prst="rect">
            <a:avLst/>
          </a:prstGeom>
          <a:ln w="0">
            <a:noFill/>
          </a:ln>
        </p:spPr>
      </p:pic>
      <p:pic>
        <p:nvPicPr>
          <p:cNvPr id="108" name="pe03254_" descr=""/>
          <p:cNvPicPr/>
          <p:nvPr/>
        </p:nvPicPr>
        <p:blipFill>
          <a:blip r:embed="rId4"/>
          <a:stretch/>
        </p:blipFill>
        <p:spPr>
          <a:xfrm>
            <a:off x="7010280" y="4191120"/>
            <a:ext cx="1406520" cy="1268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 rot="16267800">
            <a:off x="4571280" y="2283120"/>
            <a:ext cx="228600" cy="6934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0720 h 6934320"/>
              <a:gd name="textAreaBottom" fmla="*/ 6753600 h 693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6019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ENTRES DE VALIDATION = LYCEES DES METI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2438640" cy="17524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ff"/>
                </a:solidFill>
                <a:latin typeface="Times New Roman"/>
              </a:rPr>
              <a:t>RECTORA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05120" y="3048120"/>
            <a:ext cx="1218960" cy="10666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733560" y="3733920"/>
            <a:ext cx="15228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581280"/>
            <a:ext cx="533520" cy="60984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3200400"/>
            <a:ext cx="1828800" cy="99072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39080" y="6400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procédure pour le candidat à la VA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bd05584_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522440" cy="2033640"/>
          </a:xfrm>
          <a:prstGeom prst="rect">
            <a:avLst/>
          </a:prstGeom>
          <a:ln w="0">
            <a:noFill/>
          </a:ln>
        </p:spPr>
      </p:pic>
      <p:pic>
        <p:nvPicPr>
          <p:cNvPr id="121" name="bd06639_" descr=""/>
          <p:cNvPicPr/>
          <p:nvPr/>
        </p:nvPicPr>
        <p:blipFill>
          <a:blip r:embed="rId2"/>
          <a:stretch/>
        </p:blipFill>
        <p:spPr>
          <a:xfrm>
            <a:off x="6477120" y="2057400"/>
            <a:ext cx="1841400" cy="1841400"/>
          </a:xfrm>
          <a:prstGeom prst="rect">
            <a:avLst/>
          </a:prstGeom>
          <a:ln w="0">
            <a:noFill/>
          </a:ln>
        </p:spPr>
      </p:pic>
      <p:pic>
        <p:nvPicPr>
          <p:cNvPr id="122" name="pe01194_" descr=""/>
          <p:cNvPicPr/>
          <p:nvPr/>
        </p:nvPicPr>
        <p:blipFill>
          <a:blip r:embed="rId3"/>
          <a:stretch/>
        </p:blipFill>
        <p:spPr>
          <a:xfrm>
            <a:off x="3505320" y="4724280"/>
            <a:ext cx="2361960" cy="1387440"/>
          </a:xfrm>
          <a:prstGeom prst="rect">
            <a:avLst/>
          </a:prstGeom>
          <a:ln w="0">
            <a:noFill/>
          </a:ln>
        </p:spPr>
      </p:pic>
      <p:pic>
        <p:nvPicPr>
          <p:cNvPr id="123" name="bd06517_" descr=""/>
          <p:cNvPicPr/>
          <p:nvPr/>
        </p:nvPicPr>
        <p:blipFill>
          <a:blip r:embed="rId4"/>
          <a:stretch/>
        </p:blipFill>
        <p:spPr>
          <a:xfrm>
            <a:off x="533520" y="487692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124" name="pe01562_" descr=""/>
          <p:cNvPicPr/>
          <p:nvPr/>
        </p:nvPicPr>
        <p:blipFill>
          <a:blip r:embed="rId5"/>
          <a:stretch/>
        </p:blipFill>
        <p:spPr>
          <a:xfrm>
            <a:off x="6781680" y="4419720"/>
            <a:ext cx="1665360" cy="1752480"/>
          </a:xfrm>
          <a:prstGeom prst="rect">
            <a:avLst/>
          </a:prstGeom>
          <a:ln w="0">
            <a:noFill/>
          </a:ln>
        </p:spPr>
      </p:pic>
      <p:pic>
        <p:nvPicPr>
          <p:cNvPr id="125" name="pe01561_" descr=""/>
          <p:cNvPicPr/>
          <p:nvPr/>
        </p:nvPicPr>
        <p:blipFill>
          <a:blip r:embed="rId6"/>
          <a:stretch/>
        </p:blipFill>
        <p:spPr>
          <a:xfrm>
            <a:off x="3124080" y="2133720"/>
            <a:ext cx="2367000" cy="157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0" y="29718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304812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48640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5410080"/>
            <a:ext cx="914400" cy="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886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6248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286000" y="4038480"/>
            <a:ext cx="4114800" cy="914400"/>
          </a:xfrm>
          <a:prstGeom prst="line">
            <a:avLst/>
          </a:prstGeom>
          <a:ln w="38160">
            <a:solidFill>
              <a:srgbClr val="ffff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6248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es principes de la VAE à l’Education Nationa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éclaratif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l’expérience mise en mo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Inférenc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la dé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8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fr-FR" sz="2400" spc="-1" strike="noStrike">
                <a:solidFill>
                  <a:srgbClr val="ffffcc"/>
                </a:solidFill>
                <a:latin typeface="Times New Roman"/>
              </a:rPr>
              <a:t>Quelle investigatio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na01607_" descr=""/>
          <p:cNvPicPr/>
          <p:nvPr/>
        </p:nvPicPr>
        <p:blipFill>
          <a:blip r:embed="rId1"/>
          <a:stretch/>
        </p:blipFill>
        <p:spPr>
          <a:xfrm>
            <a:off x="4038480" y="3809880"/>
            <a:ext cx="1827360" cy="1685880"/>
          </a:xfrm>
          <a:prstGeom prst="rect">
            <a:avLst/>
          </a:prstGeom>
          <a:ln w="0">
            <a:noFill/>
          </a:ln>
        </p:spPr>
      </p:pic>
      <p:pic>
        <p:nvPicPr>
          <p:cNvPr id="141" name="bd05552_" descr=""/>
          <p:cNvPicPr/>
          <p:nvPr/>
        </p:nvPicPr>
        <p:blipFill>
          <a:blip r:embed="rId2"/>
          <a:stretch/>
        </p:blipFill>
        <p:spPr>
          <a:xfrm>
            <a:off x="6172200" y="1905120"/>
            <a:ext cx="2209680" cy="1815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610480" y="6324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COMPETENCE 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5410080"/>
            <a:ext cx="3809880" cy="1067040"/>
          </a:xfrm>
          <a:prstGeom prst="rect">
            <a:avLst/>
          </a:prstGeom>
          <a:solidFill>
            <a:srgbClr val="cc00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cc"/>
                </a:solidFill>
                <a:latin typeface="Times New Roman"/>
              </a:rPr>
              <a:t>Avec les robot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fr-FR" sz="2800" spc="-1" strike="noStrike">
                <a:solidFill>
                  <a:srgbClr val="ffffcc"/>
                </a:solidFill>
                <a:latin typeface="Times New Roman"/>
              </a:rPr>
              <a:t>1+1  = 2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24280" y="5410080"/>
            <a:ext cx="381024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ff"/>
                </a:solidFill>
                <a:latin typeface="Times New Roman"/>
              </a:rPr>
              <a:t>Avec les individu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3333ff"/>
                </a:solidFill>
                <a:latin typeface="Times New Roman"/>
              </a:rPr>
              <a:t>1+1= 3 !!!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286000"/>
            <a:ext cx="754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’irréductible écart entre travail réel et travail prescr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1" i="1" lang="fr-FR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fr-FR" sz="2400" spc="-1" strike="noStrike">
                <a:solidFill>
                  <a:srgbClr val="ffcc66"/>
                </a:solidFill>
                <a:latin typeface="Times New Roman"/>
              </a:rPr>
              <a:t>L’apport personnel dans l’action de travai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bs00559_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2286000" cy="1297080"/>
          </a:xfrm>
          <a:prstGeom prst="rect">
            <a:avLst/>
          </a:prstGeom>
          <a:ln w="0">
            <a:noFill/>
          </a:ln>
        </p:spPr>
      </p:pic>
      <p:pic>
        <p:nvPicPr>
          <p:cNvPr id="149" name="pe02002_" descr=""/>
          <p:cNvPicPr/>
          <p:nvPr/>
        </p:nvPicPr>
        <p:blipFill>
          <a:blip r:embed="rId2"/>
          <a:stretch/>
        </p:blipFill>
        <p:spPr>
          <a:xfrm>
            <a:off x="6553080" y="2743200"/>
            <a:ext cx="1751040" cy="175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743200" y="3581280"/>
            <a:ext cx="1066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581280"/>
            <a:ext cx="121932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114800" y="3048120"/>
            <a:ext cx="22860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3048120"/>
            <a:ext cx="304920" cy="5331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191120" y="3581280"/>
            <a:ext cx="457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63120" y="632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es conséquences de la démarche de VA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our le candidat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iplô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nouvelle compét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Pour les enseignants acteurs du dispositif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nouvelles pratiques pédagogiq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ctualisation des référentiels de certif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bd04972_" descr=""/>
          <p:cNvPicPr/>
          <p:nvPr/>
        </p:nvPicPr>
        <p:blipFill>
          <a:blip r:embed="rId1"/>
          <a:stretch/>
        </p:blipFill>
        <p:spPr>
          <a:xfrm>
            <a:off x="6553080" y="213516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59" name="pe03166_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1261800" cy="1332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019920" y="2590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172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cc66"/>
                </a:solidFill>
                <a:latin typeface="Times New Roman"/>
              </a:rPr>
              <a:t>La V.A.E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Un outil de formation tout au long de la v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i="1" lang="fr-FR" sz="3200" spc="-1" strike="noStrike">
                <a:solidFill>
                  <a:srgbClr val="ffffcc"/>
                </a:solidFill>
                <a:latin typeface="Times New Roman"/>
              </a:rPr>
              <a:t>= la  professionnalisation dur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5943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cc"/>
                </a:solidFill>
                <a:latin typeface="Times New Roman"/>
              </a:rPr>
              <a:t>GR juin 200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5" name="bd04972_" descr=""/>
          <p:cNvPicPr/>
          <p:nvPr/>
        </p:nvPicPr>
        <p:blipFill>
          <a:blip r:embed="rId1"/>
          <a:stretch/>
        </p:blipFill>
        <p:spPr>
          <a:xfrm>
            <a:off x="990720" y="3352680"/>
            <a:ext cx="4267080" cy="3198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83818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2:27:49Z</dcterms:created>
  <dc:creator>chantal riche</dc:creator>
  <dc:description/>
  <dc:language>en-US</dc:language>
  <cp:lastModifiedBy>Dig</cp:lastModifiedBy>
  <cp:lastPrinted>2003-06-13T11:59:10Z</cp:lastPrinted>
  <dcterms:modified xsi:type="dcterms:W3CDTF">2003-06-13T12:03:40Z</dcterms:modified>
  <cp:revision>16</cp:revision>
  <dc:subject/>
  <dc:title>LA VALIDATION DES ACQUIS DE L’EXPERI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3683896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</Properties>
</file>