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2ABA-742C-40CA-96EC-CD3FF765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2B5-7D1A-4C59-8E35-5F8DFE5D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7CB-5B38-4DA7-81AE-54206789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B6E-D0AC-4C0D-A4DC-56D83098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D501-8274-4ED1-9D89-3D08D3E8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216-BD4D-4B71-A3FF-E0C82BA2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D332-49AE-4343-AB04-E8A0B337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7CD5-6D87-4274-8799-473B3BAA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F48-A3F3-4B6F-BDC9-F5A63A8A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2F28-98BF-4EBE-B365-4181FF72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01B0-331B-464A-8DFC-BF20C972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E6DD-559B-4094-BF5D-44F2EAB8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4EA9-9782-4553-9266-C66E75605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ERTIFIC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LA FORMATION PROFESSIONNEL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F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« De la formation au diplôme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01000" y="6248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 système unique na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77320" y="6095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_3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81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 modalités plus souples en formation conti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01000" y="617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age_1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172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e définition partenari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 diplô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15328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image_4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029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diplômes 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 paliers successi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246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mage_2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36576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ourse aux diplôm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1532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ans-titre-5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7246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06:54:41Z</dcterms:created>
  <dc:creator>Dig</dc:creator>
  <dc:description/>
  <dc:language>en-US</dc:language>
  <cp:lastModifiedBy>Dig</cp:lastModifiedBy>
  <dcterms:modified xsi:type="dcterms:W3CDTF">2003-06-16T08:11:08Z</dcterms:modified>
  <cp:revision>8</cp:revision>
  <dc:subject/>
  <dc:title>LA CERTIFICATION  DE LA FORMATION PROFESSIONNELLE  EN FR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23604265</vt:r8>
  </property>
  <property fmtid="{D5CDD505-2E9C-101B-9397-08002B2CF9AE}" pid="3" name="_AuthorEmail">
    <vt:lpwstr>huisgufp@ej-gv.es</vt:lpwstr>
  </property>
  <property fmtid="{D5CDD505-2E9C-101B-9397-08002B2CF9AE}" pid="4" name="_AuthorEmailDisplayName">
    <vt:lpwstr>Azpiroz Artano, Igone</vt:lpwstr>
  </property>
  <property fmtid="{D5CDD505-2E9C-101B-9397-08002B2CF9AE}" pid="5" name="_EmailSubject">
    <vt:lpwstr>PONENCIA</vt:lpwstr>
  </property>
</Properties>
</file>