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919C-B01F-4B93-A1CF-0369C43C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4987-1531-45B8-B208-9FC98782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8F4E-9CDF-4622-847D-48A9FE25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1F55-936E-4A6A-97F4-D47A91F0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E086-B3D3-4445-99AA-AAF8DF3C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4C3C-2B59-4413-923B-9651B528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AC47-BE42-4E7B-B877-EB420819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EDC1-9900-4CCA-83C7-D24D9518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26E5-C9B6-4D90-AA4F-1CDB30F0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F3B0-9EF4-4BD2-A29E-F0ED7276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E58C-BF94-42C8-91FB-A2B22B58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71E7-9B46-44F7-B776-8314FD13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4395-9FFE-4C0D-89EF-3086ECE7BFF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6360" y="228600"/>
          <a:ext cx="8951760" cy="6323040"/>
        </p:xfrm>
        <a:graphic>
          <a:graphicData uri="http://schemas.openxmlformats.org/drawingml/2006/table">
            <a:tbl>
              <a:tblPr/>
              <a:tblGrid>
                <a:gridCol w="2547720"/>
                <a:gridCol w="2133720"/>
                <a:gridCol w="2135160"/>
                <a:gridCol w="213516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RREGIMEN EKONOMIKO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KONTZEPTU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ONDASUNA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IKOTEAREN HAUSTU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RABAZIZKO SOZIETATE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dokoak dira bikotearen ondasun komunak: biek bereizi gabe lorturiko irabazi edo etekinak, bikotearen eratze-aldiak irauten duen bitartean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aren edo industriaren bitartez lorturikoak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abazizko ondasunen eta ondasun pribatiboen errentak, interesak eta fruitu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u komunaren kontura ordain bidez eskuraturikoak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Eko Erregistroan erregistratu izanaren bitartez baliozkotuta eraturiko bikotearen harremanean sorturiko enpresak eta establezimenduak, bi kideetako edozeinek sortu dituela ere, eta betiere ondasun komunekin osaturikoak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koan lorturiko irabaziak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abazizkoen sozietatea hainbanatuta likidatuko da, %50ean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bentario bat egingo da, ondasunak zerrendatuta eta berdintasunezko banaketa eginda, erdibana bikoteko kideen arte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ONDASUN-BANANTZE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e izenean eskuraturiko ondasunak dagozkio bikoteko kide bakoitzari, bikotea eratu aurretik edo ondoren eskuratu dituela er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koitza bere ondasunen jabe da; independentzia osoz jarduten du haiek administratzeari dagokionez, eta askatasun osoz baliatzen ditu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kotearen kargetan bakoitzaren baliabide ekonomikoen arabera laguntzea da obligazio bakarr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koitzak bere izenean egon eta bere jabetza edo titulartasunekoak diren ondasun eta eskubideak baliatzen ditu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egimen ekonomiko hau desegitea erraza da, eta horrek banantze-izapidea errazten du ondasun-banantzearen unean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ARTAIDETZA-ERREGIME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 erabat independentean administratzen eta gozatzen dituzte euren ondasunak bikoteko kideek, euren artean ondasun-banantzea indarrean dagoen bezala, baina behin erregimenaren likidazioa ireki ondoren, erregimen hori indarrean egon den denboran lorturiko irabazietan elkarrekiko obligazioa sortzen d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dare ondasun, eskubide edo baliabide bakoitza bikoteko kide bakoitzari dagokio arlo pribatiboan; ondasun horien etekinak ekartzen dira komunean bikoter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egimenaren likidazioan bikoteko kide bakoitzak besteak lorturiko irabazietan partaidatzeko eskubidea izango du, eta etekin gehiago lortu dituenak beste alderdia konpentsatuko du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ONDASUNEN FORU-KOMUNIKAZIO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BIZKAI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dasun higigarri edo onibar (higiezinak) guztiak komunak izango dira, edozein jatorri dutela ere, batarenak zein bestearenak izan, edozein tituluren bitartez eskuraturikoak direla ere, bikote-harremanean ekarritakoak edo erositakoak izanda ere, eta edozein lekutan egonda er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dasun guztiak erdibana komunak izango dira bien artean, eta bakoitzari bere etorkiko ondasunak administratzea egokituko zaio; irabazitako ondasunak administratzea, berriz, biei batera dagok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en baimena beharko da baliatze-egintzetarak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uak aurreikusi bezala iraungitzen da komunikazioa, hau da, seme-alabarik ez balego bezala (seme-alabentzat badaude jada legitimoak eta enborrekotasun-arauak)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u-komunikazioa amaitzeak banantze-kausa eragin ez duen alderdiari eragindako ondorio kaltegarriak hartuko dira kontuan, haren aldeko pentsioa finkatzeko, legeria zibil orokorra aplikatut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22:40:37Z</dcterms:created>
  <dc:creator>Aurora Barrio</dc:creator>
  <dc:description/>
  <dc:language>en-US</dc:language>
  <cp:lastModifiedBy>NET</cp:lastModifiedBy>
  <dcterms:modified xsi:type="dcterms:W3CDTF">2004-05-14T12:28:25Z</dcterms:modified>
  <cp:revision>10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16200193</vt:r8>
  </property>
  <property fmtid="{D5CDD505-2E9C-101B-9397-08002B2CF9AE}" pid="3" name="_AuthorEmail">
    <vt:lpwstr>i-lopezarana@ej-gv.es</vt:lpwstr>
  </property>
  <property fmtid="{D5CDD505-2E9C-101B-9397-08002B2CF9AE}" pid="4" name="_AuthorEmailDisplayName">
    <vt:lpwstr>Lopez Arana Arrieta, Jose Ignacio</vt:lpwstr>
  </property>
  <property fmtid="{D5CDD505-2E9C-101B-9397-08002B2CF9AE}" pid="5" name="_EmailSubject">
    <vt:lpwstr>REGISTRO PAREJAS DE HECHO</vt:lpwstr>
  </property>
</Properties>
</file>