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F2AA7-9F72-4059-80EB-39C92C5ED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C9FA-F492-4ADC-8AC7-30E4B878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ECC7F-A54F-4F8F-98E0-8A483A78E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B9083-1514-4859-AB98-DE01E0752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63DC5-8AD8-4FCB-90B8-2B82CDEAE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05D6-B048-4494-B25B-209DF9E7B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D4CE0-A672-4438-8228-B8C93D62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0EB6C-4569-479F-8451-C2C428BC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1DEC2-FE62-467A-AEBF-7798F548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A9CA-D68D-406A-A96B-E2EB8D68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516B5-6A59-431C-8231-20CB7CD0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1090-3958-473D-B08C-7E0204616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8604-0E0A-4AE9-BFF4-90ABD0CD4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6360" y="228600"/>
          <a:ext cx="8951760" cy="6323040"/>
        </p:xfrm>
        <a:graphic>
          <a:graphicData uri="http://schemas.openxmlformats.org/drawingml/2006/table">
            <a:tbl>
              <a:tblPr/>
              <a:tblGrid>
                <a:gridCol w="2547720"/>
                <a:gridCol w="2133720"/>
                <a:gridCol w="2135160"/>
                <a:gridCol w="2135160"/>
              </a:tblGrid>
              <a:tr h="470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Black"/>
                        </a:rPr>
                        <a:t>REGIME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Black"/>
                        </a:rPr>
                        <a:t>ECONOM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Black"/>
                        </a:rPr>
                        <a:t>CONCEP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Black"/>
                        </a:rPr>
                        <a:t>BIE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Black"/>
                        </a:rPr>
                        <a:t>RUPTURA DE LA PAREJ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06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Black"/>
                        </a:rPr>
                        <a:t>SOCIEDAD DE GANANCIALE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on bienes comunes de la pareja las ganancias o beneficios obtenidos indistintamente por cualquiera de los dos miembros de la pareja, durante el periodo de constitución de la parej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os obtenidos por el trabajo o industria.</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s rentas, intereses y frutos de los bienes gananciales y de los privativo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os adquiridos a titulo oneroso a costa del dinero comu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s empresas y establecimientos fundados durante la relación de la pareja  validamente constituida mediante su inscripción en el Registro de la CAPV, por cualquiera de los dos miembrosy constituidos con bienes comune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s ganancias obtenidas en jueg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e liquida la sociedad de gananciales por partes iguales al 5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e realizará un inventario enumerando los bienes y realizando una distribución de forma igualitaria por mitad entre los dos miembros de la pareja</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14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Black"/>
                        </a:rPr>
                        <a:t>SEPARACION DE BIENES</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 cada miembro de la pareja  le pertenecen los bienes que adquiera a su nombre tanto antes como después de la constitución de la pareja.</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da uno es propietario de sus bienes por lo que actúa con total independencia en cuanto a su administración y dispone de ellos con plena liberta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 única obligación es contribuir a las cargas de la pareja en proporción a los recursos económicos de cada un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da uno dispone de los bienes y derechos que estén a su nombre y sean de su propiedad o titularidad.</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 disolución de este régimen económico es sencilla y ello facilita el trámite de separación en el momento del reparto de bienes.</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36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GIMEN DE PARTICIPACIÓN</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os dos miembros de la pareja administra y disfruta sus bienes de forma totalmente independiente, como si rigiera entre ellos la separación de bienes, pero una vez abierta la liquidación del régimen surge una obligación recíproca de participar en las ganancias obtenidas durante el tiempo en que dicho régimen hubiera estado vigente.</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da bien, derecho o recurso patrimonial pertenece privativamente a cada miembro de la pareja, y son los beneficios de esos bienes los que se aportan  de forma común a la parej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 la liquidación del régimen cada miembro de la pareja tendrá derecho a participar en las ganancias que el otro ha obtenido, y el que mas beneficios haya obtenido compensará a la otra parte.</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69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COMUNICACIÓN FORAL DE BIENE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BIZKAIA)</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e hacen comunes por mitad, todos los bienes muebles o raíces (inmuebles), de la procedencia que sean, pertenecientes a uno u otro, por cualquier titulo, tanto los aportados como los adquiridos durante la relación de pareja y sea cual sea el lugar en que radique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e hacen comunes por mitad entre ambos todos los bienes, y corresponderá a cada uno la administración de los bienes de su procedencia, la administración de bienes ganados corresponde conjuntamente a ambo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ra los actos de disposición será necesario el consentimiento de ambo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La comunicación se extingue en la forma que prevé el Fuero, es decir,  como si no hubiere hijos (para los hijos existen ya las legítimas y las normas de troncalida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e tendrán en cuenta los efectos perjudiciales que el cese de la comunicación foral produzca a la parte que no hubiera dado lugar a la causa de separación, para fijar una pensión a su favor en aplicación de la legislación civil general.</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22:40:37Z</dcterms:created>
  <dc:creator>Aurora Barrio</dc:creator>
  <dc:description/>
  <dc:language>en-US</dc:language>
  <cp:lastModifiedBy>ej11226h</cp:lastModifiedBy>
  <dcterms:modified xsi:type="dcterms:W3CDTF">2004-03-17T08:28:23Z</dcterms:modified>
  <cp:revision>7</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59722877</vt:r8>
  </property>
  <property fmtid="{D5CDD505-2E9C-101B-9397-08002B2CF9AE}" pid="3" name="_AuthorEmail">
    <vt:lpwstr>a-barrio@ej-gv.es</vt:lpwstr>
  </property>
  <property fmtid="{D5CDD505-2E9C-101B-9397-08002B2CF9AE}" pid="4" name="_AuthorEmailDisplayName">
    <vt:lpwstr>Barrio Pazo, Aurora</vt:lpwstr>
  </property>
  <property fmtid="{D5CDD505-2E9C-101B-9397-08002B2CF9AE}" pid="5" name="_EmailSubject">
    <vt:lpwstr>REGISTRO PAREJAS DE HECHO</vt:lpwstr>
  </property>
</Properties>
</file>